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3C5313E-C6D6-4CE4-9D84-D77BBCE33047}"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B12130A-907E-4EE1-A2E0-3320D5767A2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B8FC6614-084E-4265-A0BA-0A0F4F32BB3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ED902F8-FFDD-4848-8A3B-26AE945C0A4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4FDCE2DF-D95D-4EC6-AAB1-6049CF2DE8D2}"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D8062E0-D157-4728-AED8-752255D49CE2}"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53EAC39-B58F-4F51-B5D8-2ABF9036F5A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B9C9A50-4D59-46E8-B4E6-50F335FE0C4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5BA22B41-DF1B-45DD-A215-73DDFFD9057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E1EB7C-DDE7-4927-8BB8-61AE4977D8C4}"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CF04F70-136A-4BA9-A668-96729B3936C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01878B6-E6B8-4B58-AFE9-B39C1C197D0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5C96982-49FF-46BD-8B7C-C1C08638781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450B4EB-D5FC-4BE6-BD66-DA83DCBBDBD4}"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407C4371-1242-4A12-BF0E-33305243211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B15DEF4-C136-487E-A7B4-4E86D2685B2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5A4016F-7CEF-4403-BCF4-6DE8027BFA9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517E404-1190-49C1-B9DA-5EB97F924BD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7BC35D-5706-472A-8505-C383907F2FC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932D3E-3C38-403A-9CC6-F6EFB13F449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340516D-D8C1-4620-9628-B2F7D5E54B7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5719B91-EC3F-4F05-90B4-7825530E907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F0F248-76BF-4D4A-B4A1-3AC1B5F9639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6B50BD-5C20-4951-BABE-B8F36DCF177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B891C12E-9BBB-4A5A-A45C-3338C868B55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4D47BFF-E71C-4BE7-AD68-9844A790AE1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70BC2B-D721-4006-953C-6A87C1036DB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DC2DD73-4BCD-4DDD-99CE-870CCC4220F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AEEDEAE-918B-4B75-ADCD-1A11A38F58A7}"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96620AA-42DA-4ACD-9578-E0F87465223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9E0C0E79-AA0C-4207-926B-CB72E7B398B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BBEF8-7F57-43DB-8CC2-0407F28BE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0F4AA-8668-44E9-B6A3-39590140E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8F7EA-6C61-468D-9E99-4B59BDA3F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7F01D-A331-4205-9E3B-AEB450D88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3A6E57-0B01-4F91-90BC-609E7A51C9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FCF40-95ED-4046-90EF-67AF057A8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096CD-A5F9-4B26-B217-748825781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A4794-BDC5-4253-ABCA-12C37CD59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67AFC-4410-4544-8865-0736FB17E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7FD87-6F18-4C77-8197-C1598430B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CB926-F8D7-44A2-A474-583CCD656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FE03F-450E-40CD-8B8E-AB4B71E4F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0D57A-63FD-41C8-A592-FF5121CC4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C9FBE-0307-4180-982F-E563F26DD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EC09E-F46C-4D45-B23C-D93429870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735B7-ADD9-467B-A53F-7418472215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4EF89-E5BB-472D-B692-545D47F4D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D29F-1814-422C-9BDE-B0658529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5050-29C0-4BE4-AD19-D62202ED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B84F-9850-4C9A-B447-A5DD1A961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B266C-6D39-404D-A24D-F342C58BB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8AC27-5C0C-483A-AB1C-84097944C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B61D6-B20F-48B2-B721-409983A72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CC34-FC21-4969-AB97-0E151260D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7B33FEF-6964-4B89-990B-216AB43E76E6}" type="datetime">
              <a:rPr b="0" lang="zh-TW" sz="1400" spc="-1" strike="noStrike">
                <a:solidFill>
                  <a:srgbClr val="000000"/>
                </a:solidFill>
                <a:latin typeface="Arial"/>
              </a:rPr>
              <a:t>115/07/28</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0E4139-6B6D-48E8-B436-C11FB8A4BD35}"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B1EE369-AD5C-4B0C-94C2-6694881EBC6B}" type="datetime">
              <a:rPr b="0" lang="zh-TW" sz="1400" spc="-1" strike="noStrike">
                <a:solidFill>
                  <a:srgbClr val="000000"/>
                </a:solidFill>
                <a:latin typeface="Arial"/>
              </a:rPr>
              <a:t>115/0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8CA1D68-7CF6-488D-BCBE-829C82AE0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DC1C2D4-CA3D-4B2C-8294-D9C7311E2A5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0D9349A-F3EA-4B91-B35B-92A5D55FC8F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4842C-0E3A-4F4E-8B0D-81E78B6B052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3868BA6-D824-48D2-BF3E-3BCE88529AC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9FB8778-A402-468B-8DE1-585D229EEC2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A04A9C-884F-42CC-94D5-7179FD485CC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B6272AA-9EE9-4E53-A023-85507D21C5D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0FEFB8F-5397-4864-8023-5C02CCA8B6A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44D88EB-14CD-44A1-BFD3-4B6F39C86D0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E23497B-7A46-49AC-BD0B-99C6FE88F5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84F83FF-CC3A-429B-9AF5-3396508BB7D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148264E-7804-4B06-8B27-8D1B8FD25A7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7EF64C5-923F-409F-9FCB-84E78BC58ADA}" type="datetime">
              <a:rPr b="0" lang="zh-TW" sz="1400" spc="-1" strike="noStrike">
                <a:solidFill>
                  <a:srgbClr val="000000"/>
                </a:solidFill>
                <a:latin typeface="Arial"/>
                <a:ea typeface="新細明體"/>
              </a:rPr>
              <a:t>115/07/28</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11F829A-BF84-408E-B4F8-AD68A7A315D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9EF36C0-C6FF-48A2-A10D-CA327568DA5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26104D7-1D31-460F-B185-DCC151E56EA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8BA0043-8EE1-4CD9-8B91-0EDDEF62758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BDBEDC0-986F-4C32-AEA7-17B00126EFF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9E5867F-CDC0-413A-A3C8-9910E0B8DF3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499476-AAD5-4154-A868-6AF7D5FE88F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37AF38A-DEEA-4C0A-AB48-8CC802552A9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C217907-BDA5-4D05-9846-184DC02561F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EFAC54E-D226-4E74-A2EF-08FAC19CB23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A4E97A1-A495-4BF5-8582-4A86B084471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0196EF-F7CC-4B56-A715-DE398158F64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ADE4A47-412E-4422-8721-BED05320E7D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763C18A-DB2A-4DF1-B367-3DC1FEEBCB9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784520E-03D1-445E-B9B8-44040DFC118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DE9FFFF-9583-40F8-9236-D501AF48F1E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7251866-083E-4EF9-B6E6-10F1BAE4B7C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1D169D-4267-46AE-82D2-8AEDDA35A3F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6E228-233E-49A5-BEE9-DC62CCC77F5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7948F1B-A00E-4AFC-BE37-DDD97CDC0C0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94E2E-8DB7-4B0D-9B0F-5D7DA61214A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763BC39-1707-4083-B501-0005C851F41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83360-B867-45CE-B92C-D4CE88CFF26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2EFC4C0-08F3-4306-B853-24606402D9C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93727-CC08-456D-B692-8AE04B26FF7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332F9E-D24E-49B9-ABA0-8DB35C40D9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2C19775-984E-4698-A36A-C47D783F592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463DF-31F9-4888-B4E7-E074C4B43DF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1FB0682-043F-4491-97C6-A29715213D7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0A01B90-B6A4-4F31-BDB9-E8D0FAEB5AD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411F6-F342-4F2C-8660-4CD9B68DF6E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535A14-54C0-4289-B937-AAC800C5C44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712D54F-9725-48D1-888A-8668337ABD7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BC1CE62-EC56-4ADE-AD82-A5C9CB674C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F81EA5-9865-4B8F-81A9-AA7914FAED0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094E94C-2025-4316-BB33-26FE18F1FE3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2F5AD08-E826-4A43-AE6E-769D88C9BE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FC6974-74F6-421D-9BD1-AB5C40F45A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C72B12-5212-4917-8C99-8271BC36433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ADF7B9-6C26-4AA5-BCC6-6E0E9848437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1159E1-0E5D-4969-A55B-8E3D474FC01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01F2659-36F8-405A-881B-03BD2DA6E42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F7D6CB0-6094-45B5-8DB9-1282AB5EAE8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27A1E33-94FA-4D28-90B2-24BF1A61B63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3823EBB-0B81-4EC5-8C6B-72EBC81EB14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017CC4E-C5E7-4A45-A9D6-44AD10CFC4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3C87E0-5C8F-441C-AA39-2CA14DCD1B1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F27F2E-9A2F-4EEA-A1FF-9FA643F8C66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86290D6-206C-4C9C-A617-F2050A337BD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85C0EFC-8A53-4733-A305-608C4BD9EE8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A0F49D8-F60D-4928-8914-93A053BC925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D5F709F-D721-432A-B63B-6DD92768AD7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D65EE4A-D32C-43D8-ABE8-C27492CB37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85EDBBA-6613-4388-B62D-A7087C556F2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DB2C29D-40A0-4BF4-AF98-B46FFB0227E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38AAD6-765B-4891-814E-595726793A1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6600E75-0951-4414-8653-D42B4BFAF60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230A0-D1B2-49E0-A710-16670A3A85F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6C461AA-02BC-4A03-A890-A55E045793A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BF068-3B0A-4A2A-96F6-0CBB1C683DB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CCEE714-F97A-4869-8F99-8B1C51DDDB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CC66497-2F7E-4894-8F6E-E3B4B440D10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3A04DA-021E-4E80-8F54-59798C26F50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2ACD274-1795-45F6-9B30-DC657893DE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0D24F14-4ED1-4C33-ADEB-AFEDD7688F3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45F9D0-5068-4BE4-A58B-649598D2ED0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F57953-D4AE-4834-A5A3-AA09D84F169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74DDFD-6AF6-44D5-82C7-E26433ED3D0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325BA6-77D4-41DC-85AD-FC96BBDAA8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216A066-022E-493A-BA55-CA06903A9A6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ABFC0C-524A-48C6-8E7A-9228E37D764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E95F609-4C94-49EB-83E9-EA2D189BB7A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8842104-1873-414D-B083-4E6A24CF6C2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740F7EB-3EF8-4966-A6C5-7B9CE25734F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49B9291-30D2-425C-944F-DB38D6A69D9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FE961AB-A0EC-4719-92D7-2001A0F962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5FB2C02-7CD7-44B6-886D-2976A2F4B93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9841C7-D2C9-4F8F-AE81-8C5EE80E13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67EFCB-D5AF-4433-B133-39280D6F9D6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162B550-86ED-4F6F-822A-B96852BC11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1F3C9A-0A9C-4EE8-A959-7CB0C05965E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7A1F178-F1D3-47B9-AFDC-DD4ADE85219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66A48DA-3530-430F-A2D3-361F6C43CE8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503960D-2696-46E7-A660-FF74E72E6A6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42534F1-C207-4419-9BFB-961790BD168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7CE378-D5B3-49A5-8F58-8EA4347387C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AA12F5-38DB-4922-ADDA-2729D5B1E2B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1C99AB9-9640-4658-B3EE-2E734EDAE6A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622B17F-625E-40AB-A4B6-C77B72B92B8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8467B72-C8C5-42C9-ADB7-6FF77787576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5F4DE99-7DE8-41AD-96DA-282C16F7180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9F866A3-5A4C-4F88-930B-5C4BAD86397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3FA104C-5CD3-4416-A2FD-5B06597569B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2D60C61-D6AB-4D7F-A8BF-1F0C67009BE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AACF65-C1BB-4359-BD94-9A6C3A7356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0FA043E-36E9-4DEB-8D6B-C6D86D31683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12E0FAF-A403-443C-B405-54946A5093F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F8BD28C-A224-4DC1-96AD-9E943318578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375F685-96EF-45AB-A8D6-AB1A24BE85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7B9899A-9D1A-4B15-8E20-284E5805E0E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48CB14-F4D2-4A01-B02E-36BBA9AF5E5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88054C5-5094-437D-8DCC-F6777E774EF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CE2A99-5A7C-4D12-9194-C10B1C5E5311}"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DC3FBE1-9658-44D7-B145-E595049E25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D3EDEE2-FDA0-4622-96C9-6F106BA8870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B00C0AB-3DD5-4105-8796-506CC631ADC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9911463-8649-4A38-9D3A-70D758A4345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0EFAAD2-82BF-4085-9FF8-72CEF96FAB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7121550-1732-47D4-A660-25A8E05C0A5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AB295C5-58E8-4022-8207-C94FEA67A33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6C30DF2-A017-4F78-9BFC-5E5DD616E7E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BE7B199-6B45-44A5-BA53-A89325BEBA1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A811CC3-3D61-4002-98F9-387B19AC653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4A0475-94F6-434B-AE8D-ED474F7CBDD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C419EC4-402B-4344-92B5-090EFF990E3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4F91D11-C460-40CD-A6A5-8B89CBC3A61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C6794A1-AC3B-41CE-AAA0-11C58FB718E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8D93B81-37E5-4548-81A1-C50B17EBB71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4FA7792-1704-4AD1-817B-43EC3A41D4F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C8FCF2C-46BC-44A4-9041-5B41812E51E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7BC550A-A09D-4AF6-8628-88A886E817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1D91954-8B13-445B-BD03-E78913DB0D3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11F42C-77B2-4371-B71C-406554A4822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DDFE41-AC38-44C2-8D0F-43407A28BFB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011D19-6067-4906-BE98-82A87B025A8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700BA84-3170-4A47-B8B2-450AB664F10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2DF8205-09A5-48DE-B614-36C797BB18B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191B94-7B5C-4124-B601-D252E8BB089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51D89B-8BAC-4CAB-89D9-162454E84A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99A297-7966-4B24-971A-DB2B0AF1FA7E}"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ACD75DA-23FC-4660-A60E-23A2354FBA2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6E681D7-F712-4321-8CDE-C60400D441EE}"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97C3E14-0147-4971-B499-90FA1C9A1F49}"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792AA96-1C95-414E-B287-7B89F499E0D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FA86B04-F656-4C58-A3A0-7864A4B478D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376B8B0-C048-406E-8819-F2AF923FFF1B}"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764AA06-CA0C-4638-ADB0-817248C7A63A}"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FDBE405-693A-4B3B-8E65-DAD85B442625}"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CC78F6E-FC2E-4493-978F-B279516207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B9E39E8-285D-425C-B284-9DF80557FE8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4E8A002-2CB3-4A0E-A472-651CFCE4B14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00DAD30-A724-4911-8400-A6EB2FD74DD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D62DF-C169-4356-99D0-F0940966F48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